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AAC4-D08D-4BBE-8144-08A14436437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2BD0-8E2D-42F5-9702-28F2EDDBD49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313F-A4B0-4A58-B3D4-20FF7EA5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31C-CC2B-4243-AF1F-13958DE35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3044-D717-416D-B970-CB6E342E2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2357-3674-4C79-9D01-84C219E99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5E8A-8425-4160-80A0-6D60ADE1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1536-317F-4061-A72F-EFD6F5EA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1978-A851-42F4-B692-1939F27E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4D12-BAB9-4F01-BEB8-7F7C2B9C7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64A-3999-4F65-87C4-868DFEAB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6F6A-C2BF-4AD9-A9A5-E4DF52BC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651D-AEB3-49B5-A845-AA038A4A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89CA-C9FE-40E8-AD37-CB6F36F9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7474-87BB-440D-8875-BC0E63E12A3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93 Conector recto de flecha"/>
          <p:cNvCxnSpPr/>
          <p:nvPr/>
        </p:nvCxnSpPr>
        <p:spPr>
          <a:xfrm>
            <a:off x="2000160" y="4785840"/>
            <a:ext cx="4929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49" name="91 Conector recto de flecha"/>
          <p:cNvCxnSpPr/>
          <p:nvPr/>
        </p:nvCxnSpPr>
        <p:spPr>
          <a:xfrm flipH="1">
            <a:off x="4428360" y="4056120"/>
            <a:ext cx="1080" cy="174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0" name="86 Conector recto de flecha"/>
          <p:cNvCxnSpPr/>
          <p:nvPr/>
        </p:nvCxnSpPr>
        <p:spPr>
          <a:xfrm>
            <a:off x="2071800" y="1399680"/>
            <a:ext cx="4929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1" name="84 Conector recto de flecha"/>
          <p:cNvCxnSpPr/>
          <p:nvPr/>
        </p:nvCxnSpPr>
        <p:spPr>
          <a:xfrm flipH="1">
            <a:off x="4571280" y="642960"/>
            <a:ext cx="108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2" name="Text Box 45"/>
          <p:cNvSpPr/>
          <p:nvPr/>
        </p:nvSpPr>
        <p:spPr>
          <a:xfrm>
            <a:off x="228600" y="6224760"/>
            <a:ext cx="185724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Organizador gráfico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3"/>
          <p:cNvSpPr/>
          <p:nvPr/>
        </p:nvSpPr>
        <p:spPr>
          <a:xfrm>
            <a:off x="3571920" y="1192320"/>
            <a:ext cx="1857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terror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1"/>
          <p:cNvSpPr/>
          <p:nvPr/>
        </p:nvSpPr>
        <p:spPr>
          <a:xfrm>
            <a:off x="3643200" y="65160"/>
            <a:ext cx="17859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so indiscrimin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la violencia co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rategia político-mili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8"/>
          <p:cNvSpPr/>
          <p:nvPr/>
        </p:nvSpPr>
        <p:spPr>
          <a:xfrm>
            <a:off x="3929040" y="1627200"/>
            <a:ext cx="1214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manifiesta 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63"/>
          <p:cNvSpPr/>
          <p:nvPr/>
        </p:nvSpPr>
        <p:spPr>
          <a:xfrm>
            <a:off x="3500280" y="4533840"/>
            <a:ext cx="1857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onfli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cie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8"/>
          <p:cNvSpPr/>
          <p:nvPr/>
        </p:nvSpPr>
        <p:spPr>
          <a:xfrm>
            <a:off x="4071960" y="77004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us re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1"/>
          <p:cNvSpPr/>
          <p:nvPr/>
        </p:nvSpPr>
        <p:spPr>
          <a:xfrm>
            <a:off x="285840" y="928800"/>
            <a:ext cx="184788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rmament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aques a población civ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cuestros ma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aques a infraestruc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ianzas delic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91"/>
          <p:cNvSpPr/>
          <p:nvPr/>
        </p:nvSpPr>
        <p:spPr>
          <a:xfrm>
            <a:off x="6934320" y="957240"/>
            <a:ext cx="185256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rmament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aques a población civ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cuestros masiv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taques a infraestructu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ianzas delic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1"/>
          <p:cNvSpPr/>
          <p:nvPr/>
        </p:nvSpPr>
        <p:spPr>
          <a:xfrm>
            <a:off x="2071800" y="2286000"/>
            <a:ext cx="15714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uerrillas de extr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zquier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1"/>
          <p:cNvSpPr/>
          <p:nvPr/>
        </p:nvSpPr>
        <p:spPr>
          <a:xfrm>
            <a:off x="3786120" y="2286000"/>
            <a:ext cx="15717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ilicias de extre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rec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5572080" y="2279520"/>
            <a:ext cx="1214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vimi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ligio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undamentalis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1"/>
          <p:cNvSpPr/>
          <p:nvPr/>
        </p:nvSpPr>
        <p:spPr>
          <a:xfrm>
            <a:off x="3714840" y="3124080"/>
            <a:ext cx="154296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nfrentamien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rmados inter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 trasnacional 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eneran inestabi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ter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8"/>
          <p:cNvSpPr/>
          <p:nvPr/>
        </p:nvSpPr>
        <p:spPr>
          <a:xfrm>
            <a:off x="3809880" y="4183200"/>
            <a:ext cx="14050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orman parte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1"/>
          <p:cNvSpPr/>
          <p:nvPr/>
        </p:nvSpPr>
        <p:spPr>
          <a:xfrm>
            <a:off x="1928880" y="5799240"/>
            <a:ext cx="15714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terroris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1"/>
          <p:cNvSpPr/>
          <p:nvPr/>
        </p:nvSpPr>
        <p:spPr>
          <a:xfrm>
            <a:off x="3643200" y="5799240"/>
            <a:ext cx="15717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rimen organizado transnacio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1"/>
          <p:cNvSpPr/>
          <p:nvPr/>
        </p:nvSpPr>
        <p:spPr>
          <a:xfrm>
            <a:off x="5429160" y="5794200"/>
            <a:ext cx="1357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proliferación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mercio de arm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98"/>
          <p:cNvSpPr/>
          <p:nvPr/>
        </p:nvSpPr>
        <p:spPr>
          <a:xfrm>
            <a:off x="3857760" y="5199120"/>
            <a:ext cx="12142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 manifiesta 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214200" y="3505320"/>
            <a:ext cx="1843200" cy="19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onfrontación étnic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ligiosa, política o soci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disputa por riquez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natural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er "guerras de lar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guante" sin medios pa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onerles fi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uso de la violenc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tra la población civi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actores arm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ablecen vínculos con 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rimen organiz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1"/>
          <p:cNvSpPr/>
          <p:nvPr/>
        </p:nvSpPr>
        <p:spPr>
          <a:xfrm>
            <a:off x="6929280" y="4599000"/>
            <a:ext cx="150048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conflictos tip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la Guerra F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8"/>
          <p:cNvSpPr/>
          <p:nvPr/>
        </p:nvSpPr>
        <p:spPr>
          <a:xfrm>
            <a:off x="2428920" y="1198440"/>
            <a:ext cx="928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aracteriz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98"/>
          <p:cNvSpPr/>
          <p:nvPr/>
        </p:nvSpPr>
        <p:spPr>
          <a:xfrm>
            <a:off x="5715000" y="1270080"/>
            <a:ext cx="7142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ifiere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8"/>
          <p:cNvSpPr/>
          <p:nvPr/>
        </p:nvSpPr>
        <p:spPr>
          <a:xfrm>
            <a:off x="2286000" y="4572000"/>
            <a:ext cx="85716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aracteriz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8"/>
          <p:cNvSpPr/>
          <p:nvPr/>
        </p:nvSpPr>
        <p:spPr>
          <a:xfrm>
            <a:off x="5643720" y="464040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ifiere 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88 Conector angular"/>
          <p:cNvCxnSpPr/>
          <p:nvPr/>
        </p:nvCxnSpPr>
        <p:spPr>
          <a:xfrm flipH="1" flipV="1" rot="5400000">
            <a:off x="4478760" y="621000"/>
            <a:ext cx="7200" cy="3323520"/>
          </a:xfrm>
          <a:prstGeom prst="bentConnector3">
            <a:avLst>
              <a:gd name="adj1" fmla="val 4673684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95 Conector angular"/>
          <p:cNvCxnSpPr/>
          <p:nvPr/>
        </p:nvCxnSpPr>
        <p:spPr>
          <a:xfrm flipH="1" flipV="1" rot="5400000">
            <a:off x="4372200" y="4099320"/>
            <a:ext cx="5760" cy="3394800"/>
          </a:xfrm>
          <a:prstGeom prst="bentConnector3">
            <a:avLst>
              <a:gd name="adj1" fmla="val 4193333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77" name="73 Imagen" descr="marcacion11.jpg"/>
          <p:cNvPicPr/>
          <p:nvPr/>
        </p:nvPicPr>
        <p:blipFill>
          <a:blip r:embed="rId1"/>
          <a:stretch/>
        </p:blipFill>
        <p:spPr>
          <a:xfrm>
            <a:off x="7464600" y="6215040"/>
            <a:ext cx="160812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03:13:45Z</dcterms:created>
  <dc:creator>Jhenny Torres</dc:creator>
  <dc:description/>
  <dc:language>en-US</dc:language>
  <cp:lastModifiedBy>Ximena</cp:lastModifiedBy>
  <dcterms:modified xsi:type="dcterms:W3CDTF">2010-08-13T21:13:01Z</dcterms:modified>
  <cp:revision>192</cp:revision>
  <dc:subject/>
  <dc:title>Diapositiva 1</dc:title>
</cp:coreProperties>
</file>